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4C6-F3EF-4780-B8C3-0E9DAE90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5D4-7260-438D-BC53-9EA27728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EDD-D13F-4EE4-837B-8425EDE8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0D2-50CE-4780-848A-E67AE986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168-CD8D-4CA3-A7D6-389A3652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9C0-2AC9-41BB-8D9D-3C6035CB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616-FB47-47F1-9943-FC2E9A54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16B-5DD7-43A5-81ED-D225E08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88A-E71E-44AE-A1E0-9873358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4DF-108C-468B-BCE7-C349A59E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015-CE95-408D-BCC6-10FC5F0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FDF-0F87-4B1C-AF05-5592207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11B5-00F6-4EE0-92B4-034B58835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laxyng.com/adrian_atanasiu/coduri.htm" TargetMode="External"/><Relationship Id="rId2" Type="http://schemas.openxmlformats.org/officeDocument/2006/relationships/hyperlink" Target="http://www.galaxyng.com/adrian_atanasiu/coduri.htm" TargetMode="Externa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galaxyng.com/adrian_atanasiu/coduri.htm" TargetMode="External"/><Relationship Id="rId2" Type="http://schemas.openxmlformats.org/officeDocument/2006/relationships/hyperlink" Target="http://astro.if.ufrgs.br/med/imagens/shannon.pdf" TargetMode="External"/><Relationship Id="rId3" Type="http://schemas.openxmlformats.org/officeDocument/2006/relationships/hyperlink" Target="http://www.youtube.com/watch?v=NuAwCbW5Lug&amp;NR=1" TargetMode="External"/><Relationship Id="rId4" Type="http://schemas.openxmlformats.org/officeDocument/2006/relationships/hyperlink" Target="http://www.youtube.com/watch?v=NuAwCbW5Lug&amp;NR=1" TargetMode="External"/><Relationship Id="rId5" Type="http://schemas.openxmlformats.org/officeDocument/2006/relationships/hyperlink" Target="http://www.eccpage.com/" TargetMode="External"/><Relationship Id="rId6" Type="http://schemas.openxmlformats.org/officeDocument/2006/relationships/hyperlink" Target="http://www.mth.msu.edu/~jhall/classes/codenotes/coding-notes.html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a codur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cod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324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o funcţie injectiv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alfabet surs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alfabet 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ficarea textului surs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funcţia recursiv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dific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face prin funcţia invers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066680" y="2209680"/>
                <a:ext cx="21751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0720" y="3505320"/>
                <a:ext cx="568296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ul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laxyng.com/adrian_atanasiu/coduri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{0-9} C = {0 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ificare: împart codul în grupe de 5 biţi şi decodific fiecare gr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057400" y="2057400"/>
            <a:ext cx="4091040" cy="2532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4921200"/>
                <a:ext cx="6553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001000101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ul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alaxyng.com/adrian_atanasiu/coduri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{0-9} C = {0 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dificare: împart codul în grupe de 5 biţi şi decodific fiecare gr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ul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{0 - 9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{0 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u pot decodifica 10100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33440" y="3929040"/>
                <a:ext cx="346716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001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001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00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38080" y="2819520"/>
                <a:ext cx="7980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ul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{0 1 2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{a 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: a est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re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fârşitul cuvântului-c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: a est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re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începutul cuvântului-c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: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 decodifica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doar după ce parcurg şirul într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5800" y="3276720"/>
                <a:ext cx="716292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222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abbabbabba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abbabbabba</m:t>
                        </m:r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222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abbabbabbabb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abbabbabb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222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bbbbbb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bbbb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124080" y="1676520"/>
                <a:ext cx="49532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ba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l es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c decodab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că       este injectiv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l es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e blocu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că toate cuvintele-cod au aceeaşi lung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ficarea es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tan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fix-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că nu există două cuvinte-cod cu proprietatea: unul este prefixul celuilalt (codul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rietatea prefixul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91320" y="1523880"/>
                <a:ext cx="5461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r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c decodab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orse, ASCII, Ex1, Ex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ri care nu sunt unic decodabile: Ex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r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 blocu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SCII, Ex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ri care nu sunt pe blocuri: Morse, Ex 2, Ex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ficăr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tan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orse, orice cod pe blocu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din Ex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ficări care nu su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tan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, h din Ex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ri bin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l es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că C are două element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ri binare: ASCII, Ex 1-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ri care nu sunt binare: Morse (este terna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rile binare sunt utilizate în Informatic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 est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t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unitatea elementară de informaţie: informaţia stocată de un dispozitiv care poate avea doar două stări distinc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este măsura informaţiei?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trop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niul este deschis în 1948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ude Shann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roces descris de distribuţia de probabi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olul la adre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ath.harvard.edu/~ctm/home/text/others/shannon/entropy/entropy.pdf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4202280"/>
                <a:ext cx="22096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…</m:t>
                              </m:r>
                            </m:e>
                          </m:mr>
                        </m:m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362320" y="5257800"/>
                <a:ext cx="2819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77240" y="4343400"/>
            <a:ext cx="2066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ia măsoar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dul de nedetermin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 procesului descris de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l 1. Dintr-o urnă cu o bilă albă se extrage o bilă. Ce culoare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ul es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 determin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838080" y="3962520"/>
                <a:ext cx="1730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ite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4191120"/>
                <a:ext cx="2666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o regulă de reprezentare a informaţii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ia coduri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iază proprietăţile coduri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ţ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ia datelor (coduri cu lungimi cât mai mici, arh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ţia şi eliminarea erorilor (interferenţe în telefonia mobilă, pachete pierdute în transmisii de date, defecte pe CD-uri cu muzic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l 2. Urna A are o bilă albă şi una roşie. Urna B are o bilă albă, una verde, una galbenă şi una roşie. Din fiecare se extrage câte o bilă. Care proces are nedeterminarea mai m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ul este deci entropia procesulu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3581280"/>
                <a:ext cx="24019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ite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d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91120" y="3657600"/>
                <a:ext cx="3124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066680" y="4807080"/>
                <a:ext cx="4191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hite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reen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ellow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d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86400" y="4861080"/>
                <a:ext cx="30481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ri bin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ce se utilizează codurile binare în Informatic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isticile hardware au impus dispozitive cu două stări. Procesorul manevrează şiruri de biţ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ia coduri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iază codurile din perspectiva stocării şi a transferului de date – spaţiu cât mai mic, corecţii de ero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ptograf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iază criptări/decriptări – complexitatea decriptărilor în lipsa chei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icienţa cod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m aleg cuvintele-cod astfel încât codificarea/ decodificarea să fi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abil: să fie instantanee: niciun cuvânt-cod nu este prefixul altui cuvânt-c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exemplu, un cod pe blocuri este simp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codul “2 din 5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sursa emite k cif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nci codificarea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cif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52960" y="4191120"/>
            <a:ext cx="40910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icienţa cod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um aleg cuvintele-cod astfel încât codificarea să fi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în me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ât mai scurt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frecvenţele elementelor din alfabetul-sursă sunt diferite, atunci codul pe blocuri nu mai este eficient: se pot găsi coduri (Huffman) care să scurtez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imea me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sajului codifi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olul la adre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compression.ru/download/articles/huff/huffman_1952_minimum-redundancy-code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binar Huff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rea unui c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 care să genere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ruri de lungime me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ât mai mic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5; E 2; H 2; I 6; L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1; N 6; P 2; R 1; S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3; Y 2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orele binar asociat este preluat de la: http://huffman.ooz.i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 applet la: (butonul Run the Animation)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p://www.cs.pitt.edu/~kirk/cs1501/animations/Huffma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9880" y="1600200"/>
          <a:ext cx="510552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00200"/>
                    <a:ext cx="510552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binar Huff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rtarea crescătoare după frecvenţ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1; R 1; E 2; H 2; L 2; P 2; Y 2; S 3; T 3; A 5; I 6; N 6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struirea arborelui binar asoci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care frunză conţine un caracter-surs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arcurgerea pe niveluri, frecvenţele sunt descrescăto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ocarea de cuvinte-cod binare pt fiecare frunz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arcurge arborele pe niveluri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-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ădăcina are codul “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concatenează 0/1 dacă se urmează drum spre stânga/drea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binar Huff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_Huffman_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ra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_on_freq(array);   //array is made by datastructures (char, fre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array.length&gt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extract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extract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combine_by_adding_freq(x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(array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array is now a binary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Breadth_first_search(array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y is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(y) = “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code(root) is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not finis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Breadth_first_search(array)  //walk on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y is left_child) code(y) = code(parent(y)) + “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code(y) = code(parent(y)) + “1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binar Huff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ortarea crescătoare după frecvenţ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 1; R 1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2; H 2; L 2; P 2; Y 2; S 3; T 3; A 5; I 6; N 6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onstruirea arborelui binar asoci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 2; H 2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 2; P 2; Y 2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MR) 2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 3; T 3; A 5; I 6; N 6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 2; P 2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2; (MR) 2; S 3; T 3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EH) 4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5; I 6; N 6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 2; (MR) 2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 3; T 3; (EH) 4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LP) 4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5; I 6; N 6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3; T 3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H) 4; (LP) 4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Y(MR)) 4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5; I 6; N 6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EH) 4; (LP) 4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Y(MR)) 4; A 5; I 6; N 6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ST) 6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Y(MR)) 4; A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6; N 6; (ST) 6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(EH)(LP))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 6; N 6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T) 6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; ((EH)(LP)) 8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(Y(MR)) A)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T) 6;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8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EH)(LP)) 8;((Y(MR)) A) 9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IN)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(EH)(LP)) 8;((Y(MR)) A) 9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) 12;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(ST)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)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IN) 12; ((ST)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 14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((EH)(LP)) ((Y(MR)) A))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((EH)(LP)) ((Y(MR)) A)) 17; ((IN) ((ST)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))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(((EH)(LP)) ((Y(MR)) A)) ((IN) ((ST)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))) 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binar Huff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locarea de cuvinte-cod binare pt fiecare frunz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0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01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01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01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90600" y="2057400"/>
          <a:ext cx="695340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057400"/>
                    <a:ext cx="69534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binar Huff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 de codifi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aj de transmis: HIS HAT IS MAINLY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vinte-c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11      E 0000      H 0001       I 100       L 0010       M 01010      N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0011    R 01011    S 1100       T 1101    Y 0100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ficare: de la stânga la dreapta, caracter cu c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110011001110001011110111110011001110101001110010100100100111000100000101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ificare: dinstânga,secitescbiţiipânăseobţineuncuvânt-c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este prefix pentru mai multe cuvinte-cod; 00 la fel; 000 la f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0001 = 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terg 0001 din şir şi reia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l există în natură: ADN, feromon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uri conştiente: limbaj, comportament, legi, moral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o funcţie injectiv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fabet surs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fabet c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ele din          se numes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vinte-c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334120" y="3029040"/>
                <a:ext cx="17524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71800" y="5183280"/>
                <a:ext cx="825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67080" y="4097160"/>
                <a:ext cx="15242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binar Huff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vinte-cod: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11      E 0000      H 0001       I 100       L 0010       M 01010      N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0011    R 01011    S 1100       T 1101    Y 0100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cvenţe de apariţ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5          E 2            H 2             I 6           L 2             M 1              N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2          R 1            S 3             T 3          Y 2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aj de transmis: 22 caract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HAT IS MAINLY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ă ar fi fost ales un cod binar pe blocuri, ar fi fost neces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x 4 = 88 biţi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 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ficarea prin cod binar Huffman: 80 biţi – este mai scurtă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110011001110001011110111110011001110101001110010100100100111000100000101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area erorilor de transmi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 pot corec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estina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mesaj sosit cu erori (erori de transmisie, pierderi de semn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 redundanţ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: Dacă fiecare bit ajunge corect în cel puţ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 cazuri d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încercări, atunci se transmite integral mesajul de __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a mai simplă metodă de detectare a erorii este utilizare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ţilor de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ţi de pari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ăugarea unui bit care asigură un număr par de biţi de valoare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te cuvintele cod primesc un bit final de pari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 → 1100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101111 → 10111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area erorilor de transmi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ţii de paritate nu detecteaz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orile de transmis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: Dacă în loc de 11000 ajunge 11011 la destinaţie (2 erori), atunci testul de paritate nu indică ero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zolvare: Se introduc teste mai complexe decât testul de paritate. Acestea sunt capabile să depisteze majoritatea erorilor, dar n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or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: Ultimul caracter din CNP este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 de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area erorilor de transmi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rezolvarea integrală a problemei detectării erorilor, se folosesc biţ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se poate detec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oare de transmisie, atunci metoda prin care se acceptă la destinaţie un cod es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code not correc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(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ă abordare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cţ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rori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ri corectoare de er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se cunoaşte o margine superioară a frecvenţei numărului de erori, atunci se utilizeaz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uri Hamm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duri care pot corecta eror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: Se ştie că din fiecare cuvânt-cod un singur bit poate fi transmis eronat. Alfabetul sursă are 16 elemente (în lipsa erorilor, ar fi necesari 4 biţi pentru cuvintele-co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âţi biţi vor avea cuvintele-c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 lipsa erorilor, cuvintele-cod diferă prin cel puţin 1 bit. În  cazul transmisiunii cu cel mult 1 bit eronat pe cuvânt-cod, cuvintele-cod trebuie să difere prin cel puţin ___ biţ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ri H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 (co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ot adăuga doar 2 biţi?   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U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ă primul cuvânt este 0000xy, atunci la al doilea se lipesc (~x)(~y), pentru a diferi prin 3 biţi. Al treilea cuvânt nu mai poate fi comple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76520" y="3708360"/>
          <a:ext cx="5181480" cy="26924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x   y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~x  ~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?  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ri H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cuvintele-cod de aceeaşi lungime se defineş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ţa Hamm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mărul de poziţii în care cuvintele-cod difer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ătaţi că funcţia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ţă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ă inegalitatea triunghiulu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Hamming (7,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733920" y="1447920"/>
          <a:ext cx="54100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447920"/>
                    <a:ext cx="54100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 biţi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biţi dacă cel mult 1 b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ero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ţii 3, 5, 6, 7 conţ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ţia. Biţii 1, 2,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ă şi corecteaz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a ero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o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execută 3 oper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şi se concateneaz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ultatele pentru afl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ţiei bitului incor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Hamming (7,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505320" y="1336680"/>
          <a:ext cx="54100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336680"/>
                    <a:ext cx="54100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a prim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(1,3,5,7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(2,3,6,7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(4,5,6,7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d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ul 6 trebuie inver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1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 s-a transmis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3048120"/>
            <a:ext cx="4724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alaxyng.com/adrian_atanasiu/coduri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th.harvard.edu/~ctm/home/text/others/shannon/entropy/entropy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stro.if.ufrgs.br/med/imagens/shannon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bK8ZHgxTX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wu.edu/faculty/sites/cts.cwu.edu.faculty/files//users/142/documents/cartea%20de%20algoritmi.pdf  (cap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www.youtube.com/watch?v=NuAwCbW5Lug&amp;N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ccpag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th.msu.edu/~jhall/classes/codenotes/coding-not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M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210200" cy="5791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39040" y="0"/>
            <a:ext cx="17049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99240" y="2438280"/>
            <a:ext cx="239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F. B. M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91-1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{A-Z , . ? / @ 0-9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{ _ 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12408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39625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80060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5029200"/>
            <a:ext cx="9907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62485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28600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M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3096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9680" y="2895480"/>
            <a:ext cx="4724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3657600"/>
            <a:ext cx="6553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80880" y="990720"/>
          <a:ext cx="8534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534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ul ASC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41960" y="1636560"/>
            <a:ext cx="35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62485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Standard Code for Information Interchange http://www.ascii-cod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cod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cod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cod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6668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5:41Z</dcterms:created>
  <dc:creator>adela</dc:creator>
  <dc:description/>
  <dc:language>en-US</dc:language>
  <cp:lastModifiedBy>cerasela</cp:lastModifiedBy>
  <dcterms:modified xsi:type="dcterms:W3CDTF">2018-03-24T05:53:28Z</dcterms:modified>
  <cp:revision>269</cp:revision>
  <dc:subject/>
  <dc:title>Tabele Hash</dc:title>
</cp:coreProperties>
</file>